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CF9-AD32-4282-8017-0A465287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7CD-41FB-47B6-84AA-EF2BED28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726-08CD-44CB-A913-48FB73B2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C1E-786C-4503-A440-9746E1FE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AAD-18AC-4BAD-9273-560C859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665-A561-4610-9B8D-B83DEAE2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C0D-51A4-47B2-9AAD-E74FB1FA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6CD-FE82-4286-ABE0-89ED8FD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5DC-44DB-4272-B4B1-FFB7AC62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548-6F60-4EE7-B55D-C5269F7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190-6674-4698-80CC-D3832B9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F1F-5F78-43B7-A703-1686422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17F-18D7-4879-B17F-86B716CB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562720"/>
            <a:ext cx="297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студентка 616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дыр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8784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-игры // Схв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хватка — городская приключенческая игра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и получают задания на сайте. В них зашифрованы места в городе или окрестностях. Разгадав место и приехав туда, командам нужно найти игровой код (например: EN1234567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д может быть просто написан на трубе в подвале заброшенного здания, подвешен на верхушке дерева, утоплен в речке. Код на месте может выдавать агент в обмен на что-нибудь, что участники должны сделать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быв код, команды вводят его на игровом сайте, и если код верен, получают следующее задание. Так, от уровня к уровню, команды проходят игру. Победитель (тот, кто быстрее всех выполнил все задания) получает призовой фон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авшись поздно вечером, игра, как правило, продолжается пять-семь час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553080" y="4952880"/>
            <a:ext cx="2167200" cy="16239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540360"/>
            <a:ext cx="7848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-игры // 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очки — увлекательно-познавательное автомобильное ориентирование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ники получают задания на сайте. В них зашифрованы места в городе или окрестностях. Разгадав место и приехав туда, командам нужно найти игровой код. В отличие от Схватки, код на месте добыть не сложно, он находится на видном месте и не прячется. Таким образом, многие команды проходят игру, даже не выходя из автомобил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йдя код, участники вводят его на сайте, если он верен, получают следующее задание. Побеждает тот, кто быстрее всех побывает на всех точках. Победитель получает призовой фонд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-игры // Мозговой 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зговой штурм — виртуальная интеллектуальная игра, для прохождения которой не требуется даже выходить на улицу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у игру через интернет могут играть одновременно тысячи участников со всего мира. Участники что-нибудь угадывают, решают головоломки и ребусы или просто отвечают на вопросы. Существует множество форматов игры, но неизменно участникам приходится думать и, таким образом, развивать свой навык мышления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еждает тот, кто быстрее всех выполнит задания, ответит на вопросы. Победитель получает призовой фо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10000" cy="17528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1-12-08T11:22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